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EE5D-4434-4914-B2DE-FA89B706B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97E3-10DD-4C44-B339-85C5874B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2084-B797-4351-B142-7B22F4EEB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64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64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08FE-855D-4E6D-BCB1-411BE3508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0DB3-C9F5-4952-B3DE-3DB11D818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111F-570C-4E46-8C97-CA8576C3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A53C-FB67-48C5-ABEB-6BF715C3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8BED-BC1C-4F84-BD60-3473B1B7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3865-4A90-44F0-A66D-9E393116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4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B47E-B94E-41BB-B721-F941603B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97CA-F3BF-4289-A209-5D49D5E0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CE50-C36B-43DE-967A-D733350D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049E-D9EC-427F-B91E-BCA9BF19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9FBD-F475-4ECD-8F5D-9148FB41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645D-30AF-49A2-AB91-4DE49097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4164-04E7-47E9-8DC2-5E1DDB8B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092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364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092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364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1DE7-BB0F-4648-BB42-879FACEF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B89576-E8EB-464E-AB25-FE99907D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025F6B-7454-4AD2-9C7F-0B888136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E2F4BE-5ED7-4B9A-B2DD-8E7D8D78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0135B1-C938-4B64-8BF3-11E1252B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877C27-F589-49AE-A5C6-C45CF41E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70B5-F6B3-4B95-8357-793FB340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4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A9F497-AEEF-495E-9D69-E2804F55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A769CB-5BEC-4567-8A97-8DF2E474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BBAD8B-F1AC-48B8-BF97-2848319E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D069AC-EE1D-4FD6-9953-5DE1CBA6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D8D49E-1A08-4FC5-96DE-E45F68B1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7C6AE9-8232-4732-B635-BE78782A5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1092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364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1092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364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714A98-4304-44A7-9882-6DC609D0D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E753D6-1E25-434A-A8DD-83A829FA5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64CCA6-1616-4818-BCE2-3A9A315D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288B60-1E11-4758-8C3C-BF189401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9D66-C1CB-48AB-9026-259901B9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970898-7C44-404A-9B14-B7BE3B48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F3CE28-E1F8-49D2-A9BE-B027945F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4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F24F39-AF6E-4426-92F6-0444D4B3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05BE3C-E78C-4293-99F2-CC897B71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EFE793-0358-4132-8DD3-B4924A07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37FC79-CB3C-40D5-8D8F-01A91F38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44C208-A6C0-4959-B8BE-F9404065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EC1754-C89A-42F2-9445-2B8E095AC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1092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364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1092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364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6D1F0E-6797-4D73-BCA9-0E86CE04A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0B5BBE-A624-46E7-8CA2-111823F2A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492B-31BC-4324-9C07-BFB8C291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DA019B-03DA-4DD2-8A27-D0E9FF63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7DD9C1-1F3E-4022-A71D-768150CE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11B780-3770-4675-ACAD-3C38E432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8B8D0C-1E31-48DB-8B9B-49343BFC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4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E54BB0-9A3C-4179-8329-ED11DEB2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1BD8C3-5501-47BE-9016-CEA3B3CB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ED6926-9604-44B6-AEF0-EEDF5EC3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9484DE-8028-41F5-AF09-1C9E98ED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BB4F2A-293D-405E-ABF8-EE558268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8C29A6-0DF6-4C5E-8325-96D604BE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4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95C2-9A53-4D47-8F36-C144E83D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1092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364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858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1092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364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FDE871-BD6F-488C-A3FA-87E1C6546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6FA1-E779-4D3C-ACCA-F099C659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8597-9B51-4F3D-A78B-8D745122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552F-7ECB-4DD3-A98E-1DE8CFE3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5080" y="5882760"/>
            <a:ext cx="565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C2E5-D086-40B2-8D41-1F0FFB7FA18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504720" y="6415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7947000" y="307332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885080" y="5882760"/>
            <a:ext cx="565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196F-9154-4B13-B7F3-6532BB1D925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8"/>
          </p:nvPr>
        </p:nvSpPr>
        <p:spPr>
          <a:xfrm>
            <a:off x="7885080" y="5882760"/>
            <a:ext cx="565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8F0E-C5D3-49F0-BAB7-141726EC180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dt" idx="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1"/>
          </p:nvPr>
        </p:nvSpPr>
        <p:spPr>
          <a:xfrm>
            <a:off x="7885080" y="5882760"/>
            <a:ext cx="565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73F2-A524-44DA-AD3C-F671EAFD9C0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dt" idx="1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1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14"/>
          </p:nvPr>
        </p:nvSpPr>
        <p:spPr>
          <a:xfrm>
            <a:off x="7885080" y="5882760"/>
            <a:ext cx="565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B050-69FE-4E3C-9EF5-9D7A994EDA5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dt" idx="15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042560" y="1484280"/>
            <a:ext cx="69138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Активные формы контроля и оценки знаний учащихся»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математики Гаибов Д.С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51960" y="25560"/>
            <a:ext cx="77662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Bookman Old Style"/>
              </a:rPr>
              <a:t>ПРИНЦИПЫ КОНТРОЛЯ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65280" y="1412640"/>
            <a:ext cx="7765920" cy="36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182880" indent="-18288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ринцип цели – определение цели контроля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182880" indent="-18288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ринцип объективности вывода результатов – установление конкретных объективно необходимых результатов обучения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182880" indent="-18288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Принцип организации – организация контроля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182880" indent="-18288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Принцип объективности оценки результатов – нахождение пути объективного анализа и оценки итогов контроля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3"/>
          <p:cNvSpPr/>
          <p:nvPr/>
        </p:nvSpPr>
        <p:spPr>
          <a:xfrm>
            <a:off x="3200400" y="657360"/>
            <a:ext cx="2523960" cy="11160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Rockwell"/>
              </a:rPr>
              <a:t>Цели контроля зн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Прямоугольник 4"/>
          <p:cNvSpPr/>
          <p:nvPr/>
        </p:nvSpPr>
        <p:spPr>
          <a:xfrm>
            <a:off x="3276720" y="3284640"/>
            <a:ext cx="2087280" cy="7207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Rockwell"/>
              </a:rPr>
              <a:t>Овладение умени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Прямоугольник 5"/>
          <p:cNvSpPr/>
          <p:nvPr/>
        </p:nvSpPr>
        <p:spPr>
          <a:xfrm>
            <a:off x="971640" y="3284640"/>
            <a:ext cx="1871640" cy="7207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Rockwell"/>
              </a:rPr>
              <a:t>Усвоение зн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Прямоугольник 6"/>
          <p:cNvSpPr/>
          <p:nvPr/>
        </p:nvSpPr>
        <p:spPr>
          <a:xfrm>
            <a:off x="5796000" y="3284640"/>
            <a:ext cx="1871640" cy="7207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Rockwell"/>
              </a:rPr>
              <a:t>Сформированность мыслительных операц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Овал 7"/>
          <p:cNvSpPr/>
          <p:nvPr/>
        </p:nvSpPr>
        <p:spPr>
          <a:xfrm>
            <a:off x="2055960" y="4653000"/>
            <a:ext cx="2192040" cy="7920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Rockwell"/>
              </a:rPr>
              <a:t>специальны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Овал 8"/>
          <p:cNvSpPr/>
          <p:nvPr/>
        </p:nvSpPr>
        <p:spPr>
          <a:xfrm>
            <a:off x="5148360" y="4653000"/>
            <a:ext cx="2232000" cy="7920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Rockwell"/>
              </a:rPr>
              <a:t>общеучебны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3" name="Прямая со стрелкой 11"/>
          <p:cNvCxnSpPr>
            <a:stCxn id="237" idx="2"/>
            <a:endCxn id="238" idx="0"/>
          </p:cNvCxnSpPr>
          <p:nvPr/>
        </p:nvCxnSpPr>
        <p:spPr>
          <a:xfrm flipH="1">
            <a:off x="4320360" y="1773360"/>
            <a:ext cx="142200" cy="1512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44" name="Прямая со стрелкой 13"/>
          <p:cNvCxnSpPr>
            <a:stCxn id="238" idx="2"/>
          </p:cNvCxnSpPr>
          <p:nvPr/>
        </p:nvCxnSpPr>
        <p:spPr>
          <a:xfrm flipH="1">
            <a:off x="2842560" y="4005000"/>
            <a:ext cx="1477080" cy="648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45" name="Прямая со стрелкой 15"/>
          <p:cNvCxnSpPr>
            <a:stCxn id="238" idx="2"/>
          </p:cNvCxnSpPr>
          <p:nvPr/>
        </p:nvCxnSpPr>
        <p:spPr>
          <a:xfrm>
            <a:off x="4319640" y="4005000"/>
            <a:ext cx="1405440" cy="648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46" name="Прямая со стрелкой 17"/>
          <p:cNvCxnSpPr>
            <a:stCxn id="237" idx="2"/>
          </p:cNvCxnSpPr>
          <p:nvPr/>
        </p:nvCxnSpPr>
        <p:spPr>
          <a:xfrm flipH="1">
            <a:off x="2267640" y="1773360"/>
            <a:ext cx="2194920" cy="1512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47" name="Прямая со стрелкой 19"/>
          <p:cNvCxnSpPr>
            <a:stCxn id="237" idx="2"/>
          </p:cNvCxnSpPr>
          <p:nvPr/>
        </p:nvCxnSpPr>
        <p:spPr>
          <a:xfrm>
            <a:off x="4462200" y="1773360"/>
            <a:ext cx="1910520" cy="900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Bookman Old Style"/>
              </a:rPr>
              <a:t>ВИДЫ КОНТРОЛЯ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249" name="Diagram 5"/>
          <p:cNvGrpSpPr/>
          <p:nvPr/>
        </p:nvGrpSpPr>
        <p:grpSpPr>
          <a:xfrm>
            <a:off x="1547640" y="1638000"/>
            <a:ext cx="6264360" cy="4680000"/>
            <a:chOff x="1547640" y="1638000"/>
            <a:chExt cx="6264360" cy="4680000"/>
          </a:xfrm>
        </p:grpSpPr>
        <p:sp>
          <p:nvSpPr>
            <p:cNvPr id="250" name="_s2052"/>
            <p:cNvSpPr/>
            <p:nvPr/>
          </p:nvSpPr>
          <p:spPr>
            <a:xfrm flipH="1">
              <a:off x="3600360" y="397836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_s2053"/>
            <p:cNvSpPr/>
            <p:nvPr/>
          </p:nvSpPr>
          <p:spPr>
            <a:xfrm>
              <a:off x="1547640" y="3393000"/>
              <a:ext cx="2052720" cy="1170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Итоговы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_s2054"/>
            <p:cNvSpPr/>
            <p:nvPr/>
          </p:nvSpPr>
          <p:spPr>
            <a:xfrm>
              <a:off x="4572000" y="4563000"/>
              <a:ext cx="0" cy="58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_s2055"/>
            <p:cNvSpPr/>
            <p:nvPr/>
          </p:nvSpPr>
          <p:spPr>
            <a:xfrm>
              <a:off x="3348000" y="5148000"/>
              <a:ext cx="2448000" cy="117000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Тематически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_s2056"/>
            <p:cNvSpPr/>
            <p:nvPr/>
          </p:nvSpPr>
          <p:spPr>
            <a:xfrm>
              <a:off x="5057640" y="397836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_s2057"/>
            <p:cNvSpPr/>
            <p:nvPr/>
          </p:nvSpPr>
          <p:spPr>
            <a:xfrm>
              <a:off x="5543640" y="3393000"/>
              <a:ext cx="2268360" cy="117000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Текущи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_s2058"/>
            <p:cNvSpPr/>
            <p:nvPr/>
          </p:nvSpPr>
          <p:spPr>
            <a:xfrm flipV="1">
              <a:off x="4572000" y="2808000"/>
              <a:ext cx="0" cy="58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_s2059"/>
            <p:cNvSpPr/>
            <p:nvPr/>
          </p:nvSpPr>
          <p:spPr>
            <a:xfrm>
              <a:off x="3276720" y="1638000"/>
              <a:ext cx="2590560" cy="117000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Предварительны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_s2060"/>
            <p:cNvSpPr/>
            <p:nvPr/>
          </p:nvSpPr>
          <p:spPr>
            <a:xfrm>
              <a:off x="3851280" y="3393000"/>
              <a:ext cx="1512720" cy="117000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Контроль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solidFill>
            <a:srgbClr val="2a5b7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Bookman Old Style"/>
              </a:rPr>
              <a:t>ФОРМЫ КОНТРОЛЯ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60" name="Овал 1"/>
          <p:cNvSpPr/>
          <p:nvPr/>
        </p:nvSpPr>
        <p:spPr>
          <a:xfrm>
            <a:off x="0" y="3141720"/>
            <a:ext cx="4284720" cy="1942920"/>
          </a:xfrm>
          <a:prstGeom prst="ellipse">
            <a:avLst/>
          </a:prstGeom>
          <a:solidFill>
            <a:srgbClr val="9ec54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ссов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Овал 2"/>
          <p:cNvSpPr/>
          <p:nvPr/>
        </p:nvSpPr>
        <p:spPr>
          <a:xfrm>
            <a:off x="4356000" y="3213000"/>
            <a:ext cx="4788000" cy="1800360"/>
          </a:xfrm>
          <a:prstGeom prst="ellipse">
            <a:avLst/>
          </a:prstGeom>
          <a:solidFill>
            <a:srgbClr val="9ec54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уаль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solidFill>
            <a:srgbClr val="90b63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Bookman Old Style"/>
              </a:rPr>
              <a:t>СПОСОБЫ КОНТРОЛЯ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63" name="Скругленный прямоугольник 3"/>
          <p:cNvSpPr/>
          <p:nvPr/>
        </p:nvSpPr>
        <p:spPr>
          <a:xfrm>
            <a:off x="1116000" y="2421000"/>
            <a:ext cx="2376360" cy="863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т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Скругленный прямоугольник 4"/>
          <p:cNvSpPr/>
          <p:nvPr/>
        </p:nvSpPr>
        <p:spPr>
          <a:xfrm>
            <a:off x="3348000" y="3645000"/>
            <a:ext cx="2376360" cy="10080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ен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Скругленный прямоугольник 5"/>
          <p:cNvSpPr/>
          <p:nvPr/>
        </p:nvSpPr>
        <p:spPr>
          <a:xfrm>
            <a:off x="6084720" y="4797360"/>
            <a:ext cx="2519640" cy="10080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кт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solidFill>
            <a:srgbClr val="2a5b7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ПРИМЕРЫ ПРИМЕНЕНИЯ РАЗЛИЧНЫХ ФОРМ КОНТРОЛЯ В ОПРЕДЕЛЕННЫХ ЕГО ВИДАХ</a:t>
            </a:r>
            <a:endParaRPr b="1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539640" y="1484280"/>
          <a:ext cx="8147160" cy="4810320"/>
        </p:xfrm>
        <a:graphic>
          <a:graphicData uri="http://schemas.openxmlformats.org/drawingml/2006/table">
            <a:tbl>
              <a:tblPr/>
              <a:tblGrid>
                <a:gridCol w="2232000"/>
                <a:gridCol w="5915160"/>
              </a:tblGrid>
              <a:tr h="800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ы контрол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ы контрол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83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ущ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тро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тный опро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с карточкам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исьменная провер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стовые зад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вый контро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ктическая или лабораторная рабо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трольная рабо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ч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стовые зад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заме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Organization Chart 4"/>
          <p:cNvGrpSpPr/>
          <p:nvPr/>
        </p:nvGrpSpPr>
        <p:grpSpPr>
          <a:xfrm>
            <a:off x="1700640" y="1430280"/>
            <a:ext cx="5441400" cy="3874680"/>
            <a:chOff x="1700640" y="1430280"/>
            <a:chExt cx="5441400" cy="3874680"/>
          </a:xfrm>
        </p:grpSpPr>
        <p:cxnSp>
          <p:nvCxnSpPr>
            <p:cNvPr id="269" name="_s3076"/>
            <p:cNvCxnSpPr>
              <a:stCxn id="270" idx="0"/>
              <a:endCxn id="271" idx="2"/>
            </p:cNvCxnSpPr>
            <p:nvPr/>
          </p:nvCxnSpPr>
          <p:spPr>
            <a:xfrm flipV="1" rot="16200000">
              <a:off x="4220640" y="2820960"/>
              <a:ext cx="1912320" cy="1426680"/>
            </a:xfrm>
            <a:prstGeom prst="bentConnector3">
              <a:avLst>
                <a:gd name="adj1" fmla="val 5968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72" name="_s3077"/>
            <p:cNvCxnSpPr/>
            <p:nvPr/>
          </p:nvCxnSpPr>
          <p:spPr>
            <a:xfrm flipV="1" rot="16200000">
              <a:off x="4848480" y="2187720"/>
              <a:ext cx="644760" cy="1425240"/>
            </a:xfrm>
            <a:prstGeom prst="bentConnector3">
              <a:avLst>
                <a:gd name="adj1" fmla="val 17709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73" name="_s3078"/>
            <p:cNvCxnSpPr>
              <a:stCxn id="274" idx="0"/>
              <a:endCxn id="271" idx="2"/>
            </p:cNvCxnSpPr>
            <p:nvPr/>
          </p:nvCxnSpPr>
          <p:spPr>
            <a:xfrm flipH="1" flipV="1" rot="5400000">
              <a:off x="3402720" y="2196360"/>
              <a:ext cx="680040" cy="1443600"/>
            </a:xfrm>
            <a:prstGeom prst="bentConnector3">
              <a:avLst>
                <a:gd name="adj1" fmla="val 16737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75" name="_s3079"/>
            <p:cNvCxnSpPr>
              <a:stCxn id="276" idx="0"/>
              <a:endCxn id="271" idx="2"/>
            </p:cNvCxnSpPr>
            <p:nvPr/>
          </p:nvCxnSpPr>
          <p:spPr>
            <a:xfrm flipH="1" flipV="1" rot="5400000">
              <a:off x="2769840" y="2796480"/>
              <a:ext cx="1912320" cy="1475640"/>
            </a:xfrm>
            <a:prstGeom prst="bentConnector3">
              <a:avLst>
                <a:gd name="adj1" fmla="val 5968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271" name="_s3080"/>
            <p:cNvSpPr/>
            <p:nvPr/>
          </p:nvSpPr>
          <p:spPr>
            <a:xfrm>
              <a:off x="3060000" y="1430280"/>
              <a:ext cx="2807640" cy="1148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Принципы контроля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_s3081"/>
            <p:cNvSpPr/>
            <p:nvPr/>
          </p:nvSpPr>
          <p:spPr>
            <a:xfrm>
              <a:off x="1700640" y="4490640"/>
              <a:ext cx="2576160" cy="81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Наглядность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_s3082"/>
            <p:cNvSpPr/>
            <p:nvPr/>
          </p:nvSpPr>
          <p:spPr>
            <a:xfrm>
              <a:off x="1700640" y="3258360"/>
              <a:ext cx="2640240" cy="81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Объективность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_s3083"/>
            <p:cNvSpPr/>
            <p:nvPr/>
          </p:nvSpPr>
          <p:spPr>
            <a:xfrm>
              <a:off x="4635360" y="3223080"/>
              <a:ext cx="2506680" cy="849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Всесторонность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_s3084"/>
            <p:cNvSpPr/>
            <p:nvPr/>
          </p:nvSpPr>
          <p:spPr>
            <a:xfrm>
              <a:off x="4635360" y="4490640"/>
              <a:ext cx="2506680" cy="81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Систематичность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6836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Rockwell"/>
              </a:rPr>
              <a:t>Результаты контроля учебно-познавательной деятельности учащихся выражаются в её оценке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Rockwell"/>
              </a:rPr>
              <a:t>Оценка – это характеристика ценности, уровня или значения каких либо объектов или процессов (словарь Ожегова)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Rockwell"/>
              </a:rPr>
              <a:t>Оценка в образовании представляет собой установление качества приобретенных знаний, умений и навыков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Organization Chart 4"/>
          <p:cNvGrpSpPr/>
          <p:nvPr/>
        </p:nvGrpSpPr>
        <p:grpSpPr>
          <a:xfrm>
            <a:off x="1691640" y="549360"/>
            <a:ext cx="5457960" cy="1306800"/>
            <a:chOff x="1691640" y="549360"/>
            <a:chExt cx="5457960" cy="1306800"/>
          </a:xfrm>
        </p:grpSpPr>
        <p:cxnSp>
          <p:nvCxnSpPr>
            <p:cNvPr id="280" name="_s4100"/>
            <p:cNvCxnSpPr/>
            <p:nvPr/>
          </p:nvCxnSpPr>
          <p:spPr>
            <a:xfrm flipV="1" rot="16200000">
              <a:off x="5047920" y="680760"/>
              <a:ext cx="302040" cy="13975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81" name="_s4101"/>
            <p:cNvCxnSpPr>
              <a:stCxn id="282" idx="0"/>
              <a:endCxn id="283" idx="2"/>
            </p:cNvCxnSpPr>
            <p:nvPr/>
          </p:nvCxnSpPr>
          <p:spPr>
            <a:xfrm flipH="1" flipV="1" rot="5400000">
              <a:off x="3501360" y="363960"/>
              <a:ext cx="526320" cy="150372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283" name="_s4102"/>
            <p:cNvSpPr/>
            <p:nvPr/>
          </p:nvSpPr>
          <p:spPr>
            <a:xfrm>
              <a:off x="3112200" y="549360"/>
              <a:ext cx="2807640" cy="303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Принципы оценки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_s4103"/>
            <p:cNvSpPr/>
            <p:nvPr/>
          </p:nvSpPr>
          <p:spPr>
            <a:xfrm>
              <a:off x="1691640" y="1378800"/>
              <a:ext cx="2641680" cy="477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Объективность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_s4104"/>
            <p:cNvSpPr/>
            <p:nvPr/>
          </p:nvSpPr>
          <p:spPr>
            <a:xfrm>
              <a:off x="4642920" y="1378800"/>
              <a:ext cx="2506680" cy="477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Гласность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39528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Rockwell"/>
              </a:rPr>
              <a:t>Правильно установленная и выраженная оценка учебной деятельности учащихся служит важным стимулом формирования познавательных интересов, положительных качеств личности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19240" indent="-21924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Rockwell"/>
              </a:rPr>
              <a:t>Ошибка в оценке вызывает обычно серьёзные осложнения в обучении, воспитании и развитии учащихся, отрицательно влияя на результативность учебно-воспитательного процесса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СПОСОБЫ ВЫРАЖЕНИЯ ОЦЕНКИ. </a:t>
            </a:r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Словесные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Количественные (отметка)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76720" y="1717560"/>
            <a:ext cx="3887640" cy="1297080"/>
          </a:xfrm>
          <a:prstGeom prst="wedgeEllipseCallout">
            <a:avLst>
              <a:gd name="adj1" fmla="val -65638"/>
              <a:gd name="adj2" fmla="val 62731"/>
            </a:avLst>
          </a:prstGeom>
          <a:solidFill>
            <a:srgbClr val="2a5b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лодец, хорошо, можешь лучше и т.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4284720" y="3943440"/>
            <a:ext cx="3097080" cy="1150920"/>
          </a:xfrm>
          <a:prstGeom prst="wedgeEllipseCallout">
            <a:avLst>
              <a:gd name="adj1" fmla="val -45027"/>
              <a:gd name="adj2" fmla="val 62967"/>
            </a:avLst>
          </a:prstGeom>
          <a:solidFill>
            <a:srgbClr val="2a5b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, 2, 3, 4, 5 и т.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6836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оль - проверка, а также постоянное наблюдение в целях проверки или надзора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оль в системе образования представляет собой систему проверки знаний и умений учащихся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Diagram 5"/>
          <p:cNvGrpSpPr/>
          <p:nvPr/>
        </p:nvGrpSpPr>
        <p:grpSpPr>
          <a:xfrm>
            <a:off x="941400" y="549360"/>
            <a:ext cx="6900120" cy="6045480"/>
            <a:chOff x="941400" y="549360"/>
            <a:chExt cx="6900120" cy="6045480"/>
          </a:xfrm>
        </p:grpSpPr>
        <p:sp>
          <p:nvSpPr>
            <p:cNvPr id="291" name="_s5124"/>
            <p:cNvSpPr/>
            <p:nvPr/>
          </p:nvSpPr>
          <p:spPr>
            <a:xfrm flipH="1" flipV="1">
              <a:off x="3147480" y="2814840"/>
              <a:ext cx="621360" cy="37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_s5125"/>
            <p:cNvSpPr/>
            <p:nvPr/>
          </p:nvSpPr>
          <p:spPr>
            <a:xfrm>
              <a:off x="941400" y="1893240"/>
              <a:ext cx="2299680" cy="150912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КОРРЕКТИРУЮЩА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_s5126"/>
            <p:cNvSpPr/>
            <p:nvPr/>
          </p:nvSpPr>
          <p:spPr>
            <a:xfrm flipH="1">
              <a:off x="3147480" y="3948840"/>
              <a:ext cx="621360" cy="37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_s5127"/>
            <p:cNvSpPr/>
            <p:nvPr/>
          </p:nvSpPr>
          <p:spPr>
            <a:xfrm>
              <a:off x="941400" y="3716280"/>
              <a:ext cx="2203560" cy="151416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СТИМУЛИРУЮЩА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_s5128"/>
            <p:cNvSpPr/>
            <p:nvPr/>
          </p:nvSpPr>
          <p:spPr>
            <a:xfrm>
              <a:off x="4391640" y="4326480"/>
              <a:ext cx="0" cy="75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_s5129"/>
            <p:cNvSpPr/>
            <p:nvPr/>
          </p:nvSpPr>
          <p:spPr>
            <a:xfrm>
              <a:off x="3241440" y="5082840"/>
              <a:ext cx="2396880" cy="1512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ВОСПИТЫВАЮЩА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_s5130"/>
            <p:cNvSpPr/>
            <p:nvPr/>
          </p:nvSpPr>
          <p:spPr>
            <a:xfrm>
              <a:off x="5013720" y="3948840"/>
              <a:ext cx="621360" cy="37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_s5131"/>
            <p:cNvSpPr/>
            <p:nvPr/>
          </p:nvSpPr>
          <p:spPr>
            <a:xfrm>
              <a:off x="5541840" y="3815640"/>
              <a:ext cx="2299680" cy="151128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РАЗВИВАЮЩА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_s5132"/>
            <p:cNvSpPr/>
            <p:nvPr/>
          </p:nvSpPr>
          <p:spPr>
            <a:xfrm flipV="1">
              <a:off x="5013720" y="2814840"/>
              <a:ext cx="621360" cy="37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_s5133"/>
            <p:cNvSpPr/>
            <p:nvPr/>
          </p:nvSpPr>
          <p:spPr>
            <a:xfrm>
              <a:off x="5541840" y="2019240"/>
              <a:ext cx="2299680" cy="151200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ОБУЧАЮЩА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_s5134"/>
            <p:cNvSpPr/>
            <p:nvPr/>
          </p:nvSpPr>
          <p:spPr>
            <a:xfrm flipV="1">
              <a:off x="4391640" y="2061000"/>
              <a:ext cx="0" cy="75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_s5135"/>
            <p:cNvSpPr/>
            <p:nvPr/>
          </p:nvSpPr>
          <p:spPr>
            <a:xfrm>
              <a:off x="3144960" y="549360"/>
              <a:ext cx="2396880" cy="151200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ДИАГНОСТИЧЕСКА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_s5136"/>
            <p:cNvSpPr/>
            <p:nvPr/>
          </p:nvSpPr>
          <p:spPr>
            <a:xfrm>
              <a:off x="3337560" y="2817000"/>
              <a:ext cx="2107800" cy="151200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ФУНКЦИ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ОЦЕНОК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AutoShape 5"/>
          <p:cNvSpPr/>
          <p:nvPr/>
        </p:nvSpPr>
        <p:spPr>
          <a:xfrm>
            <a:off x="179280" y="227160"/>
            <a:ext cx="3672000" cy="2160360"/>
          </a:xfrm>
          <a:prstGeom prst="rightArrowCallout">
            <a:avLst>
              <a:gd name="adj1" fmla="val 25002"/>
              <a:gd name="adj2" fmla="val 25000"/>
              <a:gd name="adj3" fmla="val 28329"/>
              <a:gd name="adj4" fmla="val 6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33280" y="803160"/>
            <a:ext cx="237672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ДИАГНОСТИЧЕСКА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ФУНКЦИЯ</a:t>
            </a:r>
            <a:endParaRPr b="1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66560" y="3822480"/>
            <a:ext cx="8229600" cy="1871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Rockwell"/>
              </a:rPr>
              <a:t>Использование различных форм контроля: тесты, к.р., самооценка, оценивание другими учащимися и т.п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Rockwell"/>
              </a:rPr>
              <a:t>Использовать отметку и словесную оценку: отметка измеряет результаты обучения, словесная оценка измеряет старательность, вселяя в ученика уверенность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3873600" y="227160"/>
            <a:ext cx="4824360" cy="22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мерение усвоения учащими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бного материала, опреде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ъемов усвоения материала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убины поним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7"/>
          <p:cNvSpPr/>
          <p:nvPr/>
        </p:nvSpPr>
        <p:spPr>
          <a:xfrm>
            <a:off x="5003640" y="2565360"/>
            <a:ext cx="3097440" cy="1152720"/>
          </a:xfrm>
          <a:prstGeom prst="downArrowCallout">
            <a:avLst>
              <a:gd name="adj1" fmla="val 67183"/>
              <a:gd name="adj2" fmla="val 68383"/>
              <a:gd name="adj3" fmla="val 16667"/>
              <a:gd name="adj4" fmla="val 6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AutoShape 2"/>
          <p:cNvSpPr/>
          <p:nvPr/>
        </p:nvSpPr>
        <p:spPr>
          <a:xfrm>
            <a:off x="285840" y="728640"/>
            <a:ext cx="3600360" cy="2160720"/>
          </a:xfrm>
          <a:prstGeom prst="rightArrowCallout">
            <a:avLst>
              <a:gd name="adj1" fmla="val 25002"/>
              <a:gd name="adj2" fmla="val 25000"/>
              <a:gd name="adj3" fmla="val 27771"/>
              <a:gd name="adj4" fmla="val 66667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4000" y="1310760"/>
            <a:ext cx="2303280" cy="10083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ОБУЧАЮЩА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ФУНКЦИЯ</a:t>
            </a:r>
            <a:endParaRPr b="1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744480" y="4509720"/>
            <a:ext cx="8229600" cy="187164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Rockwell"/>
              </a:rPr>
              <a:t>Осуществление быстрой обратной связи: показать, что сделано правильно, а где есть неточности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Rockwell"/>
              </a:rPr>
              <a:t>Использование различных приёмов проверки ЗУН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AutoShape 5"/>
          <p:cNvSpPr/>
          <p:nvPr/>
        </p:nvSpPr>
        <p:spPr>
          <a:xfrm>
            <a:off x="4903920" y="3124080"/>
            <a:ext cx="3097080" cy="1224000"/>
          </a:xfrm>
          <a:prstGeom prst="downArrowCallout">
            <a:avLst>
              <a:gd name="adj1" fmla="val 63263"/>
              <a:gd name="adj2" fmla="val 64393"/>
              <a:gd name="adj3" fmla="val 16667"/>
              <a:gd name="adj4" fmla="val 66667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932280" y="728640"/>
            <a:ext cx="5041800" cy="223200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при контроле прироста знаний, умений и навы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2"/>
          <p:cNvSpPr/>
          <p:nvPr/>
        </p:nvSpPr>
        <p:spPr>
          <a:xfrm>
            <a:off x="250920" y="736560"/>
            <a:ext cx="3600360" cy="2160720"/>
          </a:xfrm>
          <a:prstGeom prst="rightArrowCallout">
            <a:avLst>
              <a:gd name="adj1" fmla="val 25002"/>
              <a:gd name="adj2" fmla="val 25000"/>
              <a:gd name="adj3" fmla="val 27771"/>
              <a:gd name="adj4" fmla="val 66667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0920" y="1312920"/>
            <a:ext cx="2448000" cy="1008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РАЗВИВАЮЩАЯ ФУНКЦИЯ</a:t>
            </a:r>
            <a:endParaRPr b="1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63480" y="4360680"/>
            <a:ext cx="8229600" cy="187164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Rockwell"/>
              </a:rPr>
              <a:t>Во время опроса должно быть развитие речи, памяти, мышления: логического, креативного, интуитивного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7" name="AutoShape 4"/>
          <p:cNvSpPr/>
          <p:nvPr/>
        </p:nvSpPr>
        <p:spPr>
          <a:xfrm>
            <a:off x="4824360" y="3035160"/>
            <a:ext cx="3095640" cy="1224000"/>
          </a:xfrm>
          <a:prstGeom prst="downArrowCallout">
            <a:avLst>
              <a:gd name="adj1" fmla="val 63234"/>
              <a:gd name="adj2" fmla="val 64363"/>
              <a:gd name="adj3" fmla="val 16667"/>
              <a:gd name="adj4" fmla="val 66667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3851280" y="701640"/>
            <a:ext cx="5041800" cy="223200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прироста психических операций в определённых психических процесс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AutoShape 2"/>
          <p:cNvSpPr/>
          <p:nvPr/>
        </p:nvSpPr>
        <p:spPr>
          <a:xfrm>
            <a:off x="181080" y="507960"/>
            <a:ext cx="4678200" cy="2594160"/>
          </a:xfrm>
          <a:prstGeom prst="rightArrowCallout">
            <a:avLst>
              <a:gd name="adj1" fmla="val 25002"/>
              <a:gd name="adj2" fmla="val 25000"/>
              <a:gd name="adj3" fmla="val 27768"/>
              <a:gd name="adj4" fmla="val 6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2966760" cy="100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ВОСПИТЫВАЮЩАЯ ФУНКЦИЯ</a:t>
            </a:r>
            <a:endParaRPr b="1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744480" y="4452480"/>
            <a:ext cx="8229600" cy="20005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контроля у учащихся должны развиваться сотрудничество, законопослушание, старательность, ответственность,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ая Я – концепция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2" name="AutoShape 4"/>
          <p:cNvSpPr/>
          <p:nvPr/>
        </p:nvSpPr>
        <p:spPr>
          <a:xfrm>
            <a:off x="5580000" y="3135240"/>
            <a:ext cx="3097440" cy="1224000"/>
          </a:xfrm>
          <a:prstGeom prst="downArrowCallout">
            <a:avLst>
              <a:gd name="adj1" fmla="val 63270"/>
              <a:gd name="adj2" fmla="val 64401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4881600" y="476280"/>
            <a:ext cx="4105080" cy="2592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, на сколько реализуется процесс принятия, стабилизации, устойчивости изучаемого учебного материала, норм проведения контрол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AutoShape 2"/>
          <p:cNvSpPr/>
          <p:nvPr/>
        </p:nvSpPr>
        <p:spPr>
          <a:xfrm>
            <a:off x="31680" y="547560"/>
            <a:ext cx="3963960" cy="2160720"/>
          </a:xfrm>
          <a:prstGeom prst="rightArrowCallout">
            <a:avLst>
              <a:gd name="adj1" fmla="val 25002"/>
              <a:gd name="adj2" fmla="val 25000"/>
              <a:gd name="adj3" fmla="val 27773"/>
              <a:gd name="adj4" fmla="val 66667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1680" y="1123920"/>
            <a:ext cx="2665440" cy="10080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СТИМУЛИРУЮЩАЯ ФУНКЦИЯ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24000" y="3716280"/>
            <a:ext cx="8229600" cy="288144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Rockwell"/>
              </a:rPr>
              <a:t>      </a:t>
            </a:r>
            <a:r>
              <a:rPr b="1" lang="ru-RU" sz="1700" spc="-1" strike="noStrike">
                <a:solidFill>
                  <a:srgbClr val="000000"/>
                </a:solidFill>
                <a:latin typeface="Rockwell"/>
              </a:rPr>
              <a:t>Контроль должен стимулировать желание ребёнка заниматься данным предметом.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Rockwel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Rockwell"/>
              </a:rPr>
              <a:t>Для этого необходимы: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Rockwell"/>
              </a:rPr>
              <a:t>Объяснение критериев оценки;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Rockwell"/>
              </a:rPr>
              <a:t>Разумные требования;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Rockwell"/>
              </a:rPr>
              <a:t>Принцип открытых перспектив;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Rockwell"/>
              </a:rPr>
              <a:t>Вселение успеха;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Rockwell"/>
              </a:rPr>
              <a:t>Частота контроля;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Rockwell"/>
              </a:rPr>
              <a:t>Словесное одобрение.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7" name="AutoShape 4"/>
          <p:cNvSpPr/>
          <p:nvPr/>
        </p:nvSpPr>
        <p:spPr>
          <a:xfrm>
            <a:off x="4788000" y="2708280"/>
            <a:ext cx="3097080" cy="1008000"/>
          </a:xfrm>
          <a:prstGeom prst="downArrowCallout">
            <a:avLst>
              <a:gd name="adj1" fmla="val 76820"/>
              <a:gd name="adj2" fmla="val 78192"/>
              <a:gd name="adj3" fmla="val 16667"/>
              <a:gd name="adj4" fmla="val 66667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3995640" y="260280"/>
            <a:ext cx="5042160" cy="237672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, насколько ученики готовятся к уроку, насколько они активны во время опроса, насколько формируется мотивация для занятий данным предмет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2"/>
          <p:cNvSpPr/>
          <p:nvPr/>
        </p:nvSpPr>
        <p:spPr>
          <a:xfrm>
            <a:off x="20520" y="582480"/>
            <a:ext cx="3672000" cy="2160720"/>
          </a:xfrm>
          <a:prstGeom prst="rightArrowCallout">
            <a:avLst>
              <a:gd name="adj1" fmla="val 25002"/>
              <a:gd name="adj2" fmla="val 25000"/>
              <a:gd name="adj3" fmla="val 28324"/>
              <a:gd name="adj4" fmla="val 66667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0160" y="1158840"/>
            <a:ext cx="3111480" cy="1008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ОРРЕКТИРУЮЩА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ФУНКЦИЯ</a:t>
            </a:r>
            <a:endParaRPr b="1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504720" y="4187880"/>
            <a:ext cx="8229600" cy="20160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ос должен стимулировать учащихся к изменению своего стиля занятий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ая информация об успеваемости учащихся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ании результатов опроса педагог корректирует свою деятельность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AutoShape 4"/>
          <p:cNvSpPr/>
          <p:nvPr/>
        </p:nvSpPr>
        <p:spPr>
          <a:xfrm>
            <a:off x="4932360" y="2852640"/>
            <a:ext cx="3097080" cy="1224000"/>
          </a:xfrm>
          <a:prstGeom prst="downArrowCallout">
            <a:avLst>
              <a:gd name="adj1" fmla="val 63263"/>
              <a:gd name="adj2" fmla="val 64393"/>
              <a:gd name="adj3" fmla="val 16667"/>
              <a:gd name="adj4" fmla="val 66667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3692520" y="225360"/>
            <a:ext cx="5041800" cy="25178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оценивания должен исправлять, поправлять поведение ученика и преподавателя, если их поведение не соответствует требованиям учебного проце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6836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иентация на индивидуальную относительную норму в оценке, когда точкой отсчёта становится ученик, специфика его развития, особенности его учебной деятельности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тимистический взгляд на учащихся – ожидание учебных успехов от каждого ученика, положительное подкрепление даже небольшого продвижения в усвоении материала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ование оценок как обратной связи – необходимой для ученика информации об эффективности его работы, а не как средства жёсткого контроля, давления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оль не только за результатом, но и за процессом учебной работы школьника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ключение учащихся в оценочную деятельность, обучение их умению оценивать свою работу и работу одноклассников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моциональная включённость учителя, не допускающая равнодушия к ученику, поиск оптимальных форм поощрения и осторожное использование отрицательных оценок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положительного эмоционального фона оценочной ситуации независимо от того, какую оценку получает ученик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Bookman Old Style"/>
              </a:rPr>
              <a:t>АНКЕТИРОВАНИЕ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Rockwell"/>
              </a:rPr>
              <a:t>Уважаемые коллеги-преподаватели!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выявления стиля, применяемого при оценивании знаний учащихся, просим вас ответить на предложенную анкету.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чтите ряд суждений. После каждой фразы даны 3 суждения о правомерности заключенной в ней мысли. Пожалуйста, подчеркните те суждения, с которыми вы согласны. Постарайтесь выполнить эту работу за 5 минут.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4"/>
          <p:cNvSpPr/>
          <p:nvPr/>
        </p:nvSpPr>
        <p:spPr>
          <a:xfrm>
            <a:off x="324000" y="133200"/>
            <a:ext cx="813744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Отметка выражает мнение преподавателя о знаниях учен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, только мнение преподавател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ценка может отражать и мнение групп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зна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Если ученик долго не успевает по какому-нибудь предмету, преподаватель уже, к сожалению, не в состоянии ему помоч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гласен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обязательн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зна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Учащемуся нужно объяснить, продвинулся ли он в своих знаниях по сравнению с его предыдущими результат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ужн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обязательн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нуж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Похвала по ходу выполнения задания приносит больше пользы, чем отметки за всю сделанную рабо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гласен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согласен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зна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 Достигается нужный воспитательный эффект, если сравнивать учеников, имеющих разную успеваем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гласен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согласен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зна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Organization Chart 5"/>
          <p:cNvGrpSpPr/>
          <p:nvPr/>
        </p:nvGrpSpPr>
        <p:grpSpPr>
          <a:xfrm>
            <a:off x="1508760" y="655560"/>
            <a:ext cx="6045840" cy="5470920"/>
            <a:chOff x="1508760" y="655560"/>
            <a:chExt cx="6045840" cy="5470920"/>
          </a:xfrm>
        </p:grpSpPr>
        <p:cxnSp>
          <p:nvCxnSpPr>
            <p:cNvPr id="210" name="_s1028"/>
            <p:cNvCxnSpPr>
              <a:stCxn id="211" idx="0"/>
              <a:endCxn id="212" idx="2"/>
            </p:cNvCxnSpPr>
            <p:nvPr/>
          </p:nvCxnSpPr>
          <p:spPr>
            <a:xfrm flipV="1" rot="16200000">
              <a:off x="4379040" y="2116440"/>
              <a:ext cx="1983960" cy="1582560"/>
            </a:xfrm>
            <a:prstGeom prst="bentConnector3">
              <a:avLst>
                <a:gd name="adj1" fmla="val 575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3" name="_s1029"/>
            <p:cNvCxnSpPr>
              <a:stCxn id="214" idx="0"/>
              <a:endCxn id="212" idx="2"/>
            </p:cNvCxnSpPr>
            <p:nvPr/>
          </p:nvCxnSpPr>
          <p:spPr>
            <a:xfrm flipV="1" rot="16200000">
              <a:off x="3740760" y="2755080"/>
              <a:ext cx="3260880" cy="1582560"/>
            </a:xfrm>
            <a:prstGeom prst="bentConnector3">
              <a:avLst>
                <a:gd name="adj1" fmla="val 35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5" name="_s1030"/>
            <p:cNvCxnSpPr>
              <a:stCxn id="216" idx="0"/>
              <a:endCxn id="212" idx="2"/>
            </p:cNvCxnSpPr>
            <p:nvPr/>
          </p:nvCxnSpPr>
          <p:spPr>
            <a:xfrm flipV="1" rot="16200000">
              <a:off x="5059080" y="1436760"/>
              <a:ext cx="624240" cy="1582560"/>
            </a:xfrm>
            <a:prstGeom prst="bentConnector3">
              <a:avLst>
                <a:gd name="adj1" fmla="val 1834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7" name="_s1031"/>
            <p:cNvCxnSpPr>
              <a:stCxn id="218" idx="0"/>
              <a:endCxn id="212" idx="2"/>
            </p:cNvCxnSpPr>
            <p:nvPr/>
          </p:nvCxnSpPr>
          <p:spPr>
            <a:xfrm flipH="1" flipV="1" rot="5400000">
              <a:off x="3447000" y="1445400"/>
              <a:ext cx="662400" cy="1603800"/>
            </a:xfrm>
            <a:prstGeom prst="bentConnector3">
              <a:avLst>
                <a:gd name="adj1" fmla="val 1729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9" name="_s1032"/>
            <p:cNvCxnSpPr>
              <a:stCxn id="220" idx="0"/>
              <a:endCxn id="212" idx="2"/>
            </p:cNvCxnSpPr>
            <p:nvPr/>
          </p:nvCxnSpPr>
          <p:spPr>
            <a:xfrm flipH="1" flipV="1" rot="5400000">
              <a:off x="2129400" y="2726280"/>
              <a:ext cx="3260880" cy="1640880"/>
            </a:xfrm>
            <a:prstGeom prst="bentConnector3">
              <a:avLst>
                <a:gd name="adj1" fmla="val 35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1" name="_s1033"/>
            <p:cNvCxnSpPr>
              <a:stCxn id="222" idx="0"/>
              <a:endCxn id="212" idx="2"/>
            </p:cNvCxnSpPr>
            <p:nvPr/>
          </p:nvCxnSpPr>
          <p:spPr>
            <a:xfrm flipH="1" flipV="1" rot="5400000">
              <a:off x="2768040" y="2087640"/>
              <a:ext cx="1983960" cy="1640880"/>
            </a:xfrm>
            <a:prstGeom prst="bentConnector3">
              <a:avLst>
                <a:gd name="adj1" fmla="val 575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12" name="_s1034"/>
            <p:cNvSpPr/>
            <p:nvPr/>
          </p:nvSpPr>
          <p:spPr>
            <a:xfrm>
              <a:off x="3020400" y="655560"/>
              <a:ext cx="3117960" cy="122328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9ec5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Функции контрол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_s1035"/>
            <p:cNvSpPr/>
            <p:nvPr/>
          </p:nvSpPr>
          <p:spPr>
            <a:xfrm>
              <a:off x="1508760" y="3938040"/>
              <a:ext cx="2862360" cy="87336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50be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Прогностическ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_s1036"/>
            <p:cNvSpPr/>
            <p:nvPr/>
          </p:nvSpPr>
          <p:spPr>
            <a:xfrm>
              <a:off x="1508760" y="5214960"/>
              <a:ext cx="2862360" cy="91152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50be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Ориентирующ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_s1037"/>
            <p:cNvSpPr/>
            <p:nvPr/>
          </p:nvSpPr>
          <p:spPr>
            <a:xfrm>
              <a:off x="1508760" y="2616480"/>
              <a:ext cx="2933640" cy="87336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50be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Обучающ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_s1038"/>
            <p:cNvSpPr/>
            <p:nvPr/>
          </p:nvSpPr>
          <p:spPr>
            <a:xfrm>
              <a:off x="4769280" y="2578320"/>
              <a:ext cx="2785320" cy="91152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50be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Диагностическ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_s1039"/>
            <p:cNvSpPr/>
            <p:nvPr/>
          </p:nvSpPr>
          <p:spPr>
            <a:xfrm>
              <a:off x="4769280" y="5214960"/>
              <a:ext cx="2785320" cy="91152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50be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Воспитывающ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_s1040"/>
            <p:cNvSpPr/>
            <p:nvPr/>
          </p:nvSpPr>
          <p:spPr>
            <a:xfrm>
              <a:off x="4769280" y="3938040"/>
              <a:ext cx="2785320" cy="87336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50be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Развивающ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) Во время опроса преподаватель (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итель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ориентируется на мнение ученика, следит за 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286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дом его рассуждений и старается развить его мысли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правило. 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дко. 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этом нет необходимости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286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) Отметка должна быть «заработана» учеником, она не может даваться авансом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гласен. 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согласен. 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знаю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286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) Невыученный урок должен соответственно оцениваться, ученик не имеет права отказываться от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286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а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, это справедливо. 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т, это не верно. 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спорный вопрос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286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) Можно использовать умение учащихся оценивать свою работу и работу товарищей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гулярно. 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редка. 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т, на это никогда не остается времени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286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) Оцениваться должен результат выполненного учеником задания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, это достижение результата – объективный критерий оценки. 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т, важно учесть и нестандартные способы решения. 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знаю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286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4"/>
          <p:cNvSpPr/>
          <p:nvPr/>
        </p:nvSpPr>
        <p:spPr>
          <a:xfrm>
            <a:off x="324000" y="583200"/>
            <a:ext cx="835164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) Во время урока положительные и отрицательные оценки действий ученика должны уравновешивать друг друг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, не следует увлекаться чем-то одним – похвалами или замечаниям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т, положительных оценок должно быть больш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т, полезнее преобладание отрицательных оцено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) Когда ученик отвечает не очень уверенно, ему следует вовремя помоч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язательно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обязательно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огать во время опроса не нужн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) Активность учащихся на уроке – еще не показатель продуктивности их работ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т, это взаимосвязанные момент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, поэтому видимую активность не стоит высоко оценивать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, активность и продуктивность работы не всегда совпадаю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) Оценивая работу ученика, нужно учитывать не только имеющийся результат, но и старания, труд, вложенный в эту работ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нужно делать только в школ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ой учет необходим везд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знаю, нужно ли это делать вообщ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) В условиях современного образования щадящие отметки исключен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, это проявление процентомани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т, это гуманно по отношению к детя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но сказа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4"/>
          <p:cNvSpPr/>
          <p:nvPr/>
        </p:nvSpPr>
        <p:spPr>
          <a:xfrm>
            <a:off x="496800" y="423000"/>
            <a:ext cx="856944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) Если из-за отметки возник конфликт, авторитет преподавателя  предполагает сохранение выставленной отметки, хотя настаивать на ней нужно выдержанно и аргументированн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Согласен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Не согласен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Не зна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) Полезно противопоставлять учебные результаты учащихся, имеющих одинаковые способности и разное отношение к учени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Не согласен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Согласен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Не зна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) Если на уроке обсуждается спорный вопрос, спокойное и четкое объяснение преподавателя предпочтительнее, чем шумная дискуссия в групп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Д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Нет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Не всегд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) Выставляя отметку, следует объяснить ученику, за что она поставле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Да, всегд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Да, иногд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Нет, это ученик должен понимать са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) Преподаватель находит время, чтобы поговорить с каждым учеником о его успеваемости, успехах и недоработк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Изредк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Всегд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Практически это недостижим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Bookman Old Style"/>
              </a:rPr>
              <a:t>ТАБЛИЦА ПЕРЕВОДА ОТВЕТОВ В БАЛЛЫ</a:t>
            </a:r>
            <a:endParaRPr b="1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395280" y="2852640"/>
          <a:ext cx="8424720" cy="1368360"/>
        </p:xfrm>
        <a:graphic>
          <a:graphicData uri="http://schemas.openxmlformats.org/drawingml/2006/table">
            <a:tbl>
              <a:tblPr/>
              <a:tblGrid>
                <a:gridCol w="401760"/>
                <a:gridCol w="399960"/>
                <a:gridCol w="401760"/>
                <a:gridCol w="401400"/>
                <a:gridCol w="401760"/>
                <a:gridCol w="399960"/>
                <a:gridCol w="401760"/>
                <a:gridCol w="401400"/>
                <a:gridCol w="400320"/>
                <a:gridCol w="401400"/>
                <a:gridCol w="401760"/>
                <a:gridCol w="401760"/>
                <a:gridCol w="399960"/>
                <a:gridCol w="401760"/>
                <a:gridCol w="401400"/>
                <a:gridCol w="400320"/>
                <a:gridCol w="401400"/>
                <a:gridCol w="401760"/>
                <a:gridCol w="401760"/>
                <a:gridCol w="399960"/>
                <a:gridCol w="401400"/>
              </a:tblGrid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79280" y="31320"/>
            <a:ext cx="8748720" cy="720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Rockwell"/>
              </a:rPr>
              <a:t>Сумма баллов является количественным показателем оценочных ситуаций и стиля общения преподавателя и учащихся. 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indent="190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Rockwell"/>
              </a:rPr>
              <a:t>Сумма менее </a:t>
            </a:r>
            <a:r>
              <a:rPr b="1" i="1" lang="ru-RU" sz="2200" spc="-1" strike="noStrike">
                <a:solidFill>
                  <a:srgbClr val="ffffff"/>
                </a:solidFill>
                <a:latin typeface="Rockwell"/>
              </a:rPr>
              <a:t>28</a:t>
            </a:r>
            <a:r>
              <a:rPr b="0" i="1" lang="ru-RU" sz="2200" spc="-1" strike="noStrike">
                <a:solidFill>
                  <a:srgbClr val="ffffff"/>
                </a:solidFill>
                <a:latin typeface="Rockwell"/>
              </a:rPr>
              <a:t> баллов. </a:t>
            </a:r>
            <a:r>
              <a:rPr b="0" lang="ru-RU" sz="2200" spc="-1" strike="noStrike">
                <a:solidFill>
                  <a:srgbClr val="ffffff"/>
                </a:solidFill>
                <a:latin typeface="Rockwell"/>
              </a:rPr>
              <a:t>Стиль общения оценивается как </a:t>
            </a:r>
            <a:r>
              <a:rPr b="1" i="1" lang="ru-RU" sz="2600" spc="-1" strike="noStrike" u="sng">
                <a:solidFill>
                  <a:srgbClr val="de9c3c"/>
                </a:solidFill>
                <a:uFillTx/>
                <a:latin typeface="Rockwell"/>
              </a:rPr>
              <a:t>авторитарный.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подаватели этого типа создают оценочные ситуации, имеющие отрицательный эмоциональный фон, и редко используют содержательную оценку. Этот стиль нуждается в коррекции. 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indent="190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Rockwell"/>
              </a:rPr>
              <a:t>Сумма </a:t>
            </a:r>
            <a:r>
              <a:rPr b="1" i="1" lang="ru-RU" sz="2200" spc="-1" strike="noStrike">
                <a:solidFill>
                  <a:srgbClr val="ffffff"/>
                </a:solidFill>
                <a:latin typeface="Rockwell"/>
              </a:rPr>
              <a:t>28 – 33</a:t>
            </a:r>
            <a:r>
              <a:rPr b="0" i="1" lang="ru-RU" sz="2200" spc="-1" strike="noStrike">
                <a:solidFill>
                  <a:srgbClr val="ffffff"/>
                </a:solidFill>
                <a:latin typeface="Rockwell"/>
              </a:rPr>
              <a:t> балла. </a:t>
            </a:r>
            <a:r>
              <a:rPr b="0" lang="ru-RU" sz="2200" spc="-1" strike="noStrike">
                <a:solidFill>
                  <a:srgbClr val="ffffff"/>
                </a:solidFill>
                <a:latin typeface="Rockwell"/>
              </a:rPr>
              <a:t>Стиль общения квалифицируется как </a:t>
            </a:r>
            <a:r>
              <a:rPr b="1" i="1" lang="ru-RU" sz="2600" spc="-1" strike="noStrike" u="sng">
                <a:solidFill>
                  <a:srgbClr val="de9c3c"/>
                </a:solidFill>
                <a:uFillTx/>
                <a:latin typeface="Rockwell"/>
              </a:rPr>
              <a:t>демократический.</a:t>
            </a:r>
            <a:r>
              <a:rPr b="0" lang="ru-RU" sz="22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иентация преподавателя на результативность обучения сочетается с ориентацией на личное развитие учащихся. Есть основания считать такой стиль общения с учащимися оптимальным в условиях современного образования, что, безусловно, не гарантирует от ошибок преподавателя в отдельных оценочных ситуациях. 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indent="190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Rockwell"/>
              </a:rPr>
              <a:t>Сумма </a:t>
            </a:r>
            <a:r>
              <a:rPr b="1" i="1" lang="ru-RU" sz="2200" spc="-1" strike="noStrike">
                <a:solidFill>
                  <a:srgbClr val="ffffff"/>
                </a:solidFill>
                <a:latin typeface="Rockwell"/>
              </a:rPr>
              <a:t>34 – 40</a:t>
            </a:r>
            <a:r>
              <a:rPr b="0" i="1" lang="ru-RU" sz="2200" spc="-1" strike="noStrike">
                <a:solidFill>
                  <a:srgbClr val="ffffff"/>
                </a:solidFill>
                <a:latin typeface="Rockwell"/>
              </a:rPr>
              <a:t> баллов. </a:t>
            </a:r>
            <a:r>
              <a:rPr b="0" lang="ru-RU" sz="2200" spc="-1" strike="noStrike">
                <a:solidFill>
                  <a:srgbClr val="ffffff"/>
                </a:solidFill>
                <a:latin typeface="Rockwell"/>
              </a:rPr>
              <a:t>Стиль общения считается </a:t>
            </a:r>
            <a:r>
              <a:rPr b="1" i="1" lang="ru-RU" sz="2600" spc="-1" strike="noStrike" u="sng">
                <a:solidFill>
                  <a:srgbClr val="de9c3c"/>
                </a:solidFill>
                <a:uFillTx/>
                <a:latin typeface="Rockwell"/>
              </a:rPr>
              <a:t>либеральным.</a:t>
            </a:r>
            <a:r>
              <a:rPr b="0" lang="ru-RU" sz="22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преподавателя преобладает стремление к созданию благоприятной психологической атмосферы в классе. Однако следует иметь в виду, что стиль дает прекрасные результаты только при высоком уровне профессионального мастерства педагога. Если же этот уровень не является максимально высоким, существует реальная опасность потери возможностей управления ходом урока в классе.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indent="190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02920" y="1773000"/>
            <a:ext cx="6264360" cy="30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Bookman Old Style"/>
              </a:rPr>
              <a:t>СПАСИБО 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Bookman Old Style"/>
              </a:rPr>
              <a:t>ЗА ВНИМАНИЕ!</a:t>
            </a:r>
            <a:endParaRPr b="1" lang="en-US" sz="6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Bookman Old Style"/>
              </a:rPr>
              <a:t>ОБУЧАЮЩАЯ ФУНКЦИЯ КОНТРОЛЯ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лючается в совершенствовании знаний и умений, их систематизации.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роцессе проверки учащиеся повторяют и закрепляют изученный материал. Они не только воспроизводят ранее изученное, но и применяют знания и умения в новой ситуации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ДИАГНОСТИЧЕСКАЯ ФУНКЦИЯ КОНТРОЛЯ</a:t>
            </a:r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лючается в получении информации об ошибках, недочетах и пробелах в знаниях и умениях учащихся;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огает выявить причину и выбрать наиболее интенсивную методику обучения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ПРОГНОСТИЧЕСКАЯ ФУНКЦИЯ КОНТРОЛЯ</a:t>
            </a:r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жит получению опережающей информации об учебно-воспитательном процессе. В результате проверки получают основания для прогноза о ходе определенного отрезка учебного процесса: достаточно ли сформированы конкретные знания, умения и навыки для усвоения последующей порции учебного материала (раздела, темы).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РАЗВИВАЮЩАЯ ФУНКЦИЯ КОНТРОЛЯ</a:t>
            </a:r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оит в стимулировании познавательной активности учащихся, в развитии их творческих способностей. Контроль обладает исключительными возможностями в развитии учащихся. В процессе контроля развиваются речь, память, внимание, воображение, воля и мышление учащихся, формируются мотивы познавательной деятельности. Контроль оказывает большое влияние на развитие и проявление таких качеств личности, как способности, склонности, интересы, потребности.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ОРИЕНТИРУЮЩАЯ ФУНКЦИЯ КОНТРОЛЯ</a:t>
            </a:r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80720"/>
            <a:ext cx="8507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лючается в получении информации о степени достижения цели обучения отдельным учеником и группе в целом - насколько усвоен и как глубоко изучен учебный материал. Контроль ориентирует учащихся в их затруднениях и достижениях.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ВОСПИТЫВАЮЩАЯ ФУНКЦИЯ КОНТРОЛЯ</a:t>
            </a:r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оит в воспитании у учащихся ответственного отношения к учению, дисциплины, аккуратности, честности. Проверка побуждает учащихся более серьезно и регулярно контролировать себя при выполнении заданий. Она является условием воспитания твердой воли, настойчивости, привычки к регулярному труду.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0T16:30:46Z</dcterms:created>
  <dc:creator>Фамилия И.О.</dc:creator>
  <dc:description/>
  <dc:language>en-US</dc:language>
  <cp:lastModifiedBy>Пользователь</cp:lastModifiedBy>
  <cp:lastPrinted>2012-10-27T15:50:36Z</cp:lastPrinted>
  <dcterms:modified xsi:type="dcterms:W3CDTF">2019-10-30T19:21:15Z</dcterms:modified>
  <cp:revision>39</cp:revision>
  <dc:subject/>
  <dc:title>Педсовет</dc:title>
</cp:coreProperties>
</file>